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zyt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tigenstimu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101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98" idx="3"/>
            <a:endCxn id="99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8" idx="3"/>
            <a:endCxn id="103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902880" y="549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ozyt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3"/>
            <a:endCxn id="109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0" name=""/>
          <p:cNvCxnSpPr>
            <a:stCxn id="107" idx="3"/>
            <a:endCxn id="111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at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u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ig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leukämische Form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49360"/>
            <a:ext cx="44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ymph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unkontrollierte Bil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tigenstimu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3"/>
            <a:endCxn id="116" idx="1"/>
          </p:cNvCxnSpPr>
          <p:nvPr/>
        </p:nvCxnSpPr>
        <p:spPr>
          <a:xfrm flipV="1">
            <a:off x="3312720" y="3408120"/>
            <a:ext cx="2699640" cy="67320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7" name=""/>
          <p:cNvCxnSpPr>
            <a:stCxn id="114" idx="3"/>
            <a:endCxn id="118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pf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06200" y="549360"/>
            <a:ext cx="37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ymph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ntigenstimu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21360" y="284652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2" idx="3"/>
            <a:endCxn id="12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eLV-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hronisch-eitrige 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Pyometra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04400" y="549360"/>
            <a:ext cx="49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ymph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ntigenstimulat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6153480"/>
            <a:ext cx="285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06200" y="549360"/>
            <a:ext cx="427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ymph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influss von 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ea typeface="Arial"/>
                <a:hlinkClick r:id="rId6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7" idx="3"/>
            <a:endCxn id="131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2" name=""/>
          <p:cNvCxnSpPr>
            <a:stCxn id="127" idx="3"/>
            <a:endCxn id="12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3"/>
            <a:endCxn id="133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pinephri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8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200" y="6363360"/>
            <a:ext cx="1380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Thyrox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pinephr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7" idx="3"/>
            <a:endCxn id="13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6012000" y="351792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ess bei jun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sunden Kat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3760" y="54936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Einfluss von Hormonen &gt; Epinephrin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2" idx="3"/>
            <a:endCxn id="14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6012000" y="351792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0240" y="549360"/>
            <a:ext cx="526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Einfluss von Hormonen &gt; T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200" y="6363360"/>
            <a:ext cx="1380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Thyrox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8" idx="3"/>
            <a:endCxn id="15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6012000" y="351792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renokortizi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4120" y="549360"/>
            <a:ext cx="67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Lymph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Einfluss von Hormonen &gt; Glukokortikoid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1:15:21Z</dcterms:modified>
  <cp:revision>332</cp:revision>
  <dc:subject/>
  <dc:title>Vorstellung einer Neuheit</dc:title>
</cp:coreProperties>
</file>